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F85E-1405-476F-8B81-42A7ABB7B1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B4DC-8660-4952-9378-5E1728DAF3C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6E4-3F4E-43D1-85EA-3103579CBD7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AF9-3388-4C0B-ABBF-F0FB8D80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EC9-FA02-4937-AAC8-97F56F04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61E-44FC-4F52-AE64-2FFBE350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A1E-9BF3-4DB6-B2A7-71C0590A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EFF-FF06-4221-ACC7-2CD5729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FE1-ABA0-40D5-B1B5-272800C0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4A3-AC32-417D-9DE7-46A05C2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70C-3C16-4B6A-92FB-83C6CD6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1B0-DE0A-4432-B39E-D1A640DF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B7C-7271-406E-A665-B89F0A7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2DC-213F-458F-87C6-2F14922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1A3-F03C-4B5F-ABED-9AF5F77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0C61-0CDF-447C-A51D-3E191DAC927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alsippe.it/" TargetMode="External"/><Relationship Id="rId4" Type="http://schemas.openxmlformats.org/officeDocument/2006/relationships/hyperlink" Target="http://www.comune.treviso.i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15-11-2004-ID_8_treviso"/>
          <p:cNvPicPr/>
          <p:nvPr/>
        </p:nvPicPr>
        <p:blipFill>
          <a:blip r:embed="rId1"/>
          <a:stretch/>
        </p:blipFill>
        <p:spPr>
          <a:xfrm>
            <a:off x="0" y="-27000"/>
            <a:ext cx="4869000" cy="6858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9" name="Text Box 8"/>
          <p:cNvSpPr/>
          <p:nvPr/>
        </p:nvSpPr>
        <p:spPr>
          <a:xfrm>
            <a:off x="5076720" y="161784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Molto probabilmente l’incremento della popolazione avvenuto nella prima metà di questo decennio è dovuto alla migrazione di stranieri, per la maggior parte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Serb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Albanes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Cines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Rumeni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932360" y="404640"/>
            <a:ext cx="42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Brush Script MT"/>
                <a:ea typeface="Arial"/>
              </a:rPr>
              <a:t>Stranieri a Trevi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414036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333360"/>
            <a:ext cx="26636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Footlight MT Light"/>
                <a:ea typeface="Arial"/>
                <a:hlinkClick r:id="rId3"/>
              </a:rPr>
              <a:t>http://www.alsippe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nformazioni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Footlight MT Light"/>
                <a:ea typeface="Arial"/>
                <a:hlinkClick r:id="rId4"/>
              </a:rPr>
              <a:t>www.comune.treviso.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treviso_riviera_garibal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5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Felix Titling"/>
                <a:ea typeface="Arial"/>
              </a:rPr>
              <a:t>Bilancio demogra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2708280"/>
            <a:ext cx="3059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Il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saldo migratorio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(iscritti – cancellati) è molto superiore al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saldo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naturale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(nati – morti), che si presenta addirittura negativo: ciò significa che i morti sono stati superiori ai n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Nonostante tutto, il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saldo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totale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  <a:ea typeface="Arial"/>
              </a:rPr>
              <a:t> (saldo naturale + saldo migratorio) si presenta positivo a quota 599 pu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3348000" y="3141720"/>
            <a:ext cx="5514840" cy="217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92720" y="5877000"/>
            <a:ext cx="3529080" cy="84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: www.bellasol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C:\Users\euronics\Desktop\Chiostro_seminario_vescovile_Treviso.jpg"/>
          <p:cNvPicPr/>
          <p:nvPr/>
        </p:nvPicPr>
        <p:blipFill>
          <a:blip r:embed="rId1"/>
          <a:stretch/>
        </p:blipFill>
        <p:spPr>
          <a:xfrm>
            <a:off x="-158760" y="3413160"/>
            <a:ext cx="9485280" cy="360360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2"/>
          <p:cNvSpPr/>
          <p:nvPr/>
        </p:nvSpPr>
        <p:spPr>
          <a:xfrm>
            <a:off x="179280" y="260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 Giuse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ttangolo 3" descr=""/>
          <p:cNvPicPr/>
          <p:nvPr/>
        </p:nvPicPr>
        <p:blipFill>
          <a:blip r:embed="rId2"/>
          <a:stretch/>
        </p:blipFill>
        <p:spPr>
          <a:xfrm>
            <a:off x="-189000" y="5175360"/>
            <a:ext cx="4237200" cy="1761840"/>
          </a:xfrm>
          <a:prstGeom prst="rect">
            <a:avLst/>
          </a:prstGeom>
          <a:ln w="0">
            <a:noFill/>
          </a:ln>
        </p:spPr>
      </p:pic>
      <p:sp>
        <p:nvSpPr>
          <p:cNvPr id="61" name="Rettangolo 7"/>
          <p:cNvSpPr/>
          <p:nvPr/>
        </p:nvSpPr>
        <p:spPr>
          <a:xfrm>
            <a:off x="3851280" y="40464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 Z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8"/>
          <p:cNvSpPr/>
          <p:nvPr/>
        </p:nvSpPr>
        <p:spPr>
          <a:xfrm>
            <a:off x="1352520" y="9079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’Anton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1782720" y="2060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10"/>
          <p:cNvSpPr/>
          <p:nvPr/>
        </p:nvSpPr>
        <p:spPr>
          <a:xfrm>
            <a:off x="1213200" y="285264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Lib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11"/>
          <p:cNvSpPr/>
          <p:nvPr/>
        </p:nvSpPr>
        <p:spPr>
          <a:xfrm>
            <a:off x="197280" y="1844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Mon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12"/>
          <p:cNvSpPr/>
          <p:nvPr/>
        </p:nvSpPr>
        <p:spPr>
          <a:xfrm>
            <a:off x="6570360" y="278136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Pel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13"/>
          <p:cNvSpPr/>
          <p:nvPr/>
        </p:nvSpPr>
        <p:spPr>
          <a:xfrm>
            <a:off x="3440520" y="155736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elv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14"/>
          <p:cNvSpPr/>
          <p:nvPr/>
        </p:nvSpPr>
        <p:spPr>
          <a:xfrm>
            <a:off x="3281040" y="249228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Maria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del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Ro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tangolo 15"/>
          <p:cNvSpPr/>
          <p:nvPr/>
        </p:nvSpPr>
        <p:spPr>
          <a:xfrm>
            <a:off x="5483520" y="1628640"/>
            <a:ext cx="17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B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16"/>
          <p:cNvSpPr/>
          <p:nvPr/>
        </p:nvSpPr>
        <p:spPr>
          <a:xfrm>
            <a:off x="5668560" y="9079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Sant’Ambrogio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di</a:t>
            </a:r>
            <a:r>
              <a:rPr b="0" lang="it-IT" sz="18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abic Typesetting"/>
              </a:rPr>
              <a:t>F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:\Users\euronics\AppData\Local\Microsoft\Windows\Temporary Internet Files\Content.IE5\OA0GFKK7\MC900441311[1].png"/>
          <p:cNvPicPr/>
          <p:nvPr/>
        </p:nvPicPr>
        <p:blipFill>
          <a:blip r:embed="rId3"/>
          <a:stretch/>
        </p:blipFill>
        <p:spPr>
          <a:xfrm>
            <a:off x="179280" y="3141720"/>
            <a:ext cx="604800" cy="60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08720" y="6021360"/>
            <a:ext cx="352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ootlight MT Light"/>
                <a:ea typeface="Arial"/>
              </a:rPr>
              <a:t>Fonti immagini: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 www.panorami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ootlight MT Light"/>
                <a:ea typeface="Arial"/>
              </a:rPr>
              <a:t>Fonti informazioni: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95280" y="1525320"/>
            <a:ext cx="543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e attività produttive (primario, secondario, terziario) ed il marketing territori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er il turism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er lo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spettaco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 il tempo li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nella amministrazione e gestione delle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funzioni e dei servizi pubblic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 le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attività produt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per il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marketing territo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la amministrazione e gestione delle funzioni ed attività del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 turi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la amministrazione e gestione delle attività e delle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manifestazioni per lo spettaco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 </a:t>
            </a:r>
            <a:r>
              <a:rPr b="0" lang="en-US" sz="2000" spc="-1" strike="noStrike">
                <a:solidFill>
                  <a:srgbClr val="0070c0"/>
                </a:solidFill>
                <a:latin typeface="Segoe Print"/>
                <a:ea typeface="Arial"/>
              </a:rPr>
              <a:t>il tempo li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ttangolo 2" descr=""/>
          <p:cNvPicPr/>
          <p:nvPr/>
        </p:nvPicPr>
        <p:blipFill>
          <a:blip r:embed="rId1"/>
          <a:stretch/>
        </p:blipFill>
        <p:spPr>
          <a:xfrm>
            <a:off x="115920" y="225360"/>
            <a:ext cx="6851520" cy="11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ttp://www.comune.treviso.it/consiglio/consiglieri/foto/Mauro.jpg"/>
          <p:cNvPicPr/>
          <p:nvPr/>
        </p:nvPicPr>
        <p:blipFill>
          <a:blip r:embed="rId2"/>
          <a:stretch/>
        </p:blipFill>
        <p:spPr>
          <a:xfrm>
            <a:off x="6300720" y="1739880"/>
            <a:ext cx="190512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79280" y="1944360"/>
            <a:ext cx="66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a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famig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, indirizzo e controllo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soci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sanita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 conferenza dei sindac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a scuola di competenza comunale (materne, elementari, medi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 per la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ca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, indirizzo e controllo per la tutela degli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anim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itiche, , indirizzo e controllo in materia di </a:t>
            </a:r>
            <a:r>
              <a:rPr b="0" lang="en-US" sz="2000" spc="-1" strike="noStrike">
                <a:solidFill>
                  <a:srgbClr val="e46c0a"/>
                </a:solidFill>
                <a:latin typeface="Segoe Print"/>
                <a:ea typeface="Arial"/>
              </a:rPr>
              <a:t>salute e sicurezza dei lavoratori comuna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i luoghi di lavo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rizzo e controllo nella gestione delle funzioni ed attività del Servizio Prevenzione Protezione e degli individuati dirigenti - datori di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ttangolo 2" descr=""/>
          <p:cNvPicPr/>
          <p:nvPr/>
        </p:nvPicPr>
        <p:blipFill>
          <a:blip r:embed="rId1"/>
          <a:stretch/>
        </p:blipFill>
        <p:spPr>
          <a:xfrm>
            <a:off x="49320" y="189000"/>
            <a:ext cx="7619760" cy="114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http://tribunatreviso.gelocal.it/polopoly_fs/1.1477887.1318436873!/httpImage/image.jpg_gen/derivatives/landscape_250/image.jpg"/>
          <p:cNvPicPr/>
          <p:nvPr/>
        </p:nvPicPr>
        <p:blipFill>
          <a:blip r:embed="rId2"/>
          <a:stretch/>
        </p:blipFill>
        <p:spPr>
          <a:xfrm>
            <a:off x="6516720" y="1359000"/>
            <a:ext cx="2286000" cy="4097160"/>
          </a:xfrm>
          <a:prstGeom prst="rect">
            <a:avLst/>
          </a:prstGeom>
          <a:ln w="0">
            <a:noFill/>
          </a:ln>
        </p:spPr>
      </p:pic>
      <p:sp>
        <p:nvSpPr>
          <p:cNvPr id="80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00000" y="372600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’ambiente e per la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qualità ambientale della vi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rifiuti, aria, acqua, rumore (di attività produttive, commerciali, veicoli, ecc.), energia, ecc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rizz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ro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a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mobil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traffico e trasporti pubblici e privati di persone e mer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a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cul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compresa la promozione dell’Università degli stud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i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r le </a:t>
            </a:r>
            <a:r>
              <a:rPr b="0" lang="en-US" sz="1800" spc="-1" strike="noStrike">
                <a:solidFill>
                  <a:srgbClr val="77933c"/>
                </a:solidFill>
                <a:latin typeface="Segoe Print"/>
                <a:ea typeface="Arial"/>
              </a:rPr>
              <a:t>pari opportun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ttangolo 2" descr=""/>
          <p:cNvPicPr/>
          <p:nvPr/>
        </p:nvPicPr>
        <p:blipFill>
          <a:blip r:embed="rId1"/>
          <a:stretch/>
        </p:blipFill>
        <p:spPr>
          <a:xfrm>
            <a:off x="2766960" y="517680"/>
            <a:ext cx="5407200" cy="1933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Assessore Pimpolari"/>
          <p:cNvPicPr/>
          <p:nvPr/>
        </p:nvPicPr>
        <p:blipFill>
          <a:blip r:embed="rId2"/>
          <a:stretch/>
        </p:blipFill>
        <p:spPr>
          <a:xfrm>
            <a:off x="414360" y="822240"/>
            <a:ext cx="2316240" cy="2706840"/>
          </a:xfrm>
          <a:prstGeom prst="rect">
            <a:avLst/>
          </a:prstGeom>
          <a:ln w="0">
            <a:noFill/>
          </a:ln>
        </p:spPr>
      </p:pic>
      <p:sp>
        <p:nvSpPr>
          <p:cNvPr id="8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asellaDiTesto 22"/>
          <p:cNvSpPr/>
          <p:nvPr/>
        </p:nvSpPr>
        <p:spPr>
          <a:xfrm>
            <a:off x="179280" y="1652760"/>
            <a:ext cx="3456000" cy="49849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arbisan Ricc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orsato 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ecconato Co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hinellato En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hiole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Da Tos Gian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Dotto Ant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eraldo 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Gobbo Gius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Iannicelli Gianc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Mazzobel A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Novello Ser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Torresan Gior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Varago Gianlu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Borrelli Lui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Zampese sandro </a:t>
            </a:r>
            <a:r>
              <a:rPr b="0" i="1" lang="it-IT" sz="1800" spc="-1" strike="noStrike">
                <a:solidFill>
                  <a:srgbClr val="000000"/>
                </a:solidFill>
                <a:latin typeface="Lao UI"/>
                <a:ea typeface="Arial"/>
              </a:rPr>
              <a:t>capo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23"/>
          <p:cNvSpPr/>
          <p:nvPr/>
        </p:nvSpPr>
        <p:spPr>
          <a:xfrm>
            <a:off x="324000" y="40464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oper Std Black"/>
                <a:ea typeface="Arial"/>
              </a:rPr>
              <a:t>Lega nor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oper Std Black"/>
                <a:ea typeface="Arial"/>
              </a:rPr>
              <a:t>Liga ve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http://www.leganord.org/elezioni/images/loghi/Logo_LN_Liga_Veneta.jpg"/>
          <p:cNvPicPr/>
          <p:nvPr/>
        </p:nvPicPr>
        <p:blipFill>
          <a:blip r:embed="rId1"/>
          <a:stretch/>
        </p:blipFill>
        <p:spPr>
          <a:xfrm>
            <a:off x="2916360" y="189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26"/>
          <p:cNvSpPr/>
          <p:nvPr/>
        </p:nvSpPr>
        <p:spPr>
          <a:xfrm>
            <a:off x="5076720" y="76500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Std Black"/>
                <a:ea typeface="Arial"/>
              </a:rPr>
              <a:t>Grilli Trev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27"/>
          <p:cNvSpPr/>
          <p:nvPr/>
        </p:nvSpPr>
        <p:spPr>
          <a:xfrm>
            <a:off x="5076720" y="177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orrelli David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po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5" descr="http://www.oggitreviso.it/files/GRILLITREVISO_124_0.jpg"/>
          <p:cNvPicPr/>
          <p:nvPr/>
        </p:nvPicPr>
        <p:blipFill>
          <a:blip r:embed="rId2"/>
          <a:stretch/>
        </p:blipFill>
        <p:spPr>
          <a:xfrm>
            <a:off x="5651640" y="2781360"/>
            <a:ext cx="175716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Segnaposto piè di pagina 8"/>
          <p:cNvSpPr/>
          <p:nvPr/>
        </p:nvSpPr>
        <p:spPr>
          <a:xfrm>
            <a:off x="399564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Footlight MT Light"/>
                <a:ea typeface="Arial"/>
              </a:rPr>
              <a:t>Fonti immagini e informazioni: www.comune.treviso.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73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7:39:08Z</dcterms:created>
  <dc:creator>utente</dc:creator>
  <dc:description/>
  <dc:language>en-US</dc:language>
  <cp:lastModifiedBy>utente</cp:lastModifiedBy>
  <dcterms:modified xsi:type="dcterms:W3CDTF">2012-04-17T17:39:17Z</dcterms:modified>
  <cp:revision>1</cp:revision>
  <dc:subject/>
  <dc:title>Diapositiva 1</dc:title>
</cp:coreProperties>
</file>